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10A2-044A-44E4-8EA8-B50B85E7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17C1-EA81-43B8-BE78-C07B9805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FB1B-EBF4-40C2-8E3E-607B2ABC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D79E-B2CE-49F0-8535-F6AF92E5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D56A-AA71-4CB9-BC01-77FE6679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E0DE-8353-45B4-B193-0A3E6FD1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A2EC-5F0C-44AE-AF01-CBF640D2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6D81-7614-4DC7-A21A-75D4AE1E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2782-7652-4AC3-893D-EF07EAC4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45F0-D5B8-4011-87AE-567127DD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9C25-DA25-4E59-B103-FF9EAA64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6315-2C54-43EB-86EB-26FFC200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858A-CE0F-4E58-848E-E9D10A89D313}" type="slidenum">
              <a:rPr b="0" lang="nb-N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Film </a:t>
            </a:r>
            <a:r>
              <a:rPr b="0" lang="en-GB" sz="4400" spc="-1" strike="noStrike">
                <a:solidFill>
                  <a:srgbClr val="ccffff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2" name="Picture 6" descr="SuperStock_1612R-11870"/>
          <p:cNvPicPr/>
          <p:nvPr/>
        </p:nvPicPr>
        <p:blipFill>
          <a:blip r:embed="rId1"/>
          <a:stretch/>
        </p:blipFill>
        <p:spPr>
          <a:xfrm>
            <a:off x="2919240" y="2195640"/>
            <a:ext cx="33055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Photography III</a:t>
            </a:r>
            <a:br>
              <a:rPr sz="4400"/>
            </a:br>
            <a:r>
              <a:rPr b="0" lang="nb-NO" sz="2400" spc="-1" strike="noStrike">
                <a:solidFill>
                  <a:srgbClr val="ccffff"/>
                </a:solidFill>
                <a:latin typeface="Arial"/>
              </a:rPr>
              <a:t>Camera angle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The camera can be placed in different posi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Eye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The most common angle in fil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Low cam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Camera placed in a low angle shooting up at something/some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Used to give a sense of size, power, social status of the subj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High cam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Camera placed in a high angle shooting down at someone/someth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Used to give sense of vulnerability and powerlessness of the subj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7" descr="pollackx"/>
          <p:cNvPicPr/>
          <p:nvPr/>
        </p:nvPicPr>
        <p:blipFill>
          <a:blip r:embed="rId1"/>
          <a:stretch/>
        </p:blipFill>
        <p:spPr>
          <a:xfrm>
            <a:off x="4648320" y="2874960"/>
            <a:ext cx="40384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Photography VI</a:t>
            </a:r>
            <a:br>
              <a:rPr sz="4400"/>
            </a:br>
            <a:r>
              <a:rPr b="0" lang="nb-NO" sz="2400" spc="-1" strike="noStrike">
                <a:solidFill>
                  <a:srgbClr val="ccffff"/>
                </a:solidFill>
                <a:latin typeface="Arial"/>
              </a:rPr>
              <a:t>Colours and Lighting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Colour and lighting are used to creat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atmosp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Cold atmosp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Blue sha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Gre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Shadow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Warmness and friendly atmosp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Warm colou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Green sha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Make characters and environments look sickly and sinis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Brown t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Give the film an old-fashioned touch or a sense of the p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9" descr="new%20green%20mile%20tom%20hanks%20THE_GREEN_MILE-12"/>
          <p:cNvPicPr/>
          <p:nvPr/>
        </p:nvPicPr>
        <p:blipFill>
          <a:blip r:embed="rId1"/>
          <a:stretch/>
        </p:blipFill>
        <p:spPr>
          <a:xfrm>
            <a:off x="4727520" y="1600200"/>
            <a:ext cx="387828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gm1_1"/>
          <p:cNvPicPr/>
          <p:nvPr/>
        </p:nvPicPr>
        <p:blipFill>
          <a:blip r:embed="rId2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Charact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Main character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The story is about him/her/th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They appear in most of the scenes in the fil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They are photographed in close-ups more oft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Minor charac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These have a smaller part in the fil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They do not appear as often as the main character/s in the fil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7" descr="johnny_depp_characters_2"/>
          <p:cNvPicPr/>
          <p:nvPr/>
        </p:nvPicPr>
        <p:blipFill>
          <a:blip r:embed="rId1"/>
          <a:stretch/>
        </p:blipFill>
        <p:spPr>
          <a:xfrm>
            <a:off x="5153040" y="2371680"/>
            <a:ext cx="302904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Soun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alogues and monolog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peech by characters or a voiceover (narrato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otsteps, tinkling keys, slamming doors, washing machine, buzzing insect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reates atmosp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termines how we understand and react to different sce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7" descr="image006w"/>
          <p:cNvPicPr/>
          <p:nvPr/>
        </p:nvPicPr>
        <p:blipFill>
          <a:blip r:embed="rId1"/>
          <a:stretch/>
        </p:blipFill>
        <p:spPr>
          <a:xfrm>
            <a:off x="4648320" y="1847880"/>
            <a:ext cx="403848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Edit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The editor cuts the shots taken and joins together clips of the film into a single filmstr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The way this is done influences the way we see the fil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Usually we do not notice these cuts because the transition between them is smoo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Many short cuts put together create a sense of pace and are often used in action mov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9" descr="6a00d8341c285b53ef00e54f75ad5f8834-800wi"/>
          <p:cNvPicPr/>
          <p:nvPr/>
        </p:nvPicPr>
        <p:blipFill>
          <a:blip r:embed="rId1"/>
          <a:stretch/>
        </p:blipFill>
        <p:spPr>
          <a:xfrm>
            <a:off x="5189400" y="1600200"/>
            <a:ext cx="2954520" cy="218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film"/>
          <p:cNvPicPr/>
          <p:nvPr/>
        </p:nvPicPr>
        <p:blipFill>
          <a:blip r:embed="rId2"/>
          <a:stretch/>
        </p:blipFill>
        <p:spPr>
          <a:xfrm>
            <a:off x="5219640" y="3938760"/>
            <a:ext cx="28958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Theme/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The theme is an idea that runs through the entire fil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The filmmaker has a message to the viewers. He/she would like to tell the viewer something about someth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Examples of themes can b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Hatr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Racis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Segreg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Death penal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Lonel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Then the filmmaker has an opinion about love – for example what love is or should be or that there is no such thing as love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7" descr="Love"/>
          <p:cNvPicPr/>
          <p:nvPr/>
        </p:nvPicPr>
        <p:blipFill>
          <a:blip r:embed="rId1"/>
          <a:stretch/>
        </p:blipFill>
        <p:spPr>
          <a:xfrm>
            <a:off x="4762440" y="195732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By Nina Sandström Angelse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Selbu videregående sk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Competence Aims</a:t>
            </a:r>
            <a:br>
              <a:rPr sz="4400"/>
            </a:br>
            <a:r>
              <a:rPr b="0" lang="nb-NO" sz="1800" spc="-1" strike="noStrike">
                <a:solidFill>
                  <a:srgbClr val="ccffff"/>
                </a:solidFill>
                <a:latin typeface="Arial"/>
              </a:rPr>
              <a:t>International English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ffffff"/>
                </a:solidFill>
                <a:latin typeface="Arial"/>
              </a:rPr>
              <a:t>Culture, society and lit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aims of the studi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enable pupils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analyse, elaborate on and discuss at least one lengthy literary work and one fil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b-NO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lassholder for innhold 8" descr="film.jpg"/>
          <p:cNvPicPr/>
          <p:nvPr/>
        </p:nvPicPr>
        <p:blipFill>
          <a:blip r:embed="rId1"/>
          <a:stretch/>
        </p:blipFill>
        <p:spPr>
          <a:xfrm>
            <a:off x="4645080" y="1523880"/>
            <a:ext cx="404172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The Story </a:t>
            </a:r>
            <a:br>
              <a:rPr sz="4400"/>
            </a:br>
            <a:r>
              <a:rPr b="0" lang="nb-NO" sz="2000" spc="-1" strike="noStrike">
                <a:solidFill>
                  <a:srgbClr val="ccffff"/>
                </a:solidFill>
                <a:latin typeface="Arial"/>
              </a:rPr>
              <a:t>(Narrative)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Most films tell a s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Most stories have a conflict or problem which develops and reaches a clima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Most stories are divided into 3 or 4 sections (part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3" descr="StoryArchives"/>
          <p:cNvPicPr/>
          <p:nvPr/>
        </p:nvPicPr>
        <p:blipFill>
          <a:blip r:embed="rId1"/>
          <a:stretch/>
        </p:blipFill>
        <p:spPr>
          <a:xfrm>
            <a:off x="4648320" y="2000160"/>
            <a:ext cx="403848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The Open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The opening of a film introduc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The first 20-25 minutes of the fil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Who is the film about? (the character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Where and when do events take place? (the setting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What is his/her/their problem? (the conflic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11" descr="clapper1"/>
          <p:cNvPicPr/>
          <p:nvPr/>
        </p:nvPicPr>
        <p:blipFill>
          <a:blip r:embed="rId1"/>
          <a:stretch/>
        </p:blipFill>
        <p:spPr>
          <a:xfrm>
            <a:off x="5024520" y="2124000"/>
            <a:ext cx="32860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The Conflic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The conflict develo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Often the conflict is started by the introduction of a new character, an event, or an incid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The development of the conflict is the main part of a film (and a nov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15" descr="Conflict"/>
          <p:cNvPicPr/>
          <p:nvPr/>
        </p:nvPicPr>
        <p:blipFill>
          <a:blip r:embed="rId1"/>
          <a:stretch/>
        </p:blipFill>
        <p:spPr>
          <a:xfrm>
            <a:off x="4648320" y="2422440"/>
            <a:ext cx="40384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Resolution </a:t>
            </a:r>
            <a:br>
              <a:rPr sz="4400"/>
            </a:br>
            <a:r>
              <a:rPr b="0" lang="nb-NO" sz="1800" spc="-1" strike="noStrike">
                <a:solidFill>
                  <a:srgbClr val="ccffff"/>
                </a:solidFill>
                <a:latin typeface="Arial"/>
              </a:rPr>
              <a:t>(Konflikten løses)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This is the last part of the fil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The conflict reaches a clima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There is a turning 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The conflict might be solved – happy end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The conflict might not be solved – open end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Open ending means that we do not know what will happen to a character in 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Resolution - </a:t>
            </a:r>
            <a:r>
              <a:rPr b="0" i="1" lang="nb-NO" sz="1200" spc="-1" strike="noStrike">
                <a:solidFill>
                  <a:srgbClr val="ffffff"/>
                </a:solidFill>
                <a:latin typeface="Arial"/>
              </a:rPr>
              <a:t>løs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0" descr="Cinderella_happy_ending"/>
          <p:cNvPicPr/>
          <p:nvPr/>
        </p:nvPicPr>
        <p:blipFill>
          <a:blip r:embed="rId1"/>
          <a:stretch/>
        </p:blipFill>
        <p:spPr>
          <a:xfrm>
            <a:off x="4762440" y="2562120"/>
            <a:ext cx="38102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pening – introduces confli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ddle part – conflict develo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solution – climax, turning point and conflict solved or n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echniques used to tell a stor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 story can be presented chronologically (linear tim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lashbac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lashbacks go back in time (tilbakeplik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ften shown in different set of colou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story goes back and forth from past to pres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ften used to create suspense by revealing “what really happened” bit by 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oreshadow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 remark or incident is planted in earlier parts of the film – hinting at something that will happen later in the film– only then can the observant viewer make sense of th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g. in 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The Green Mile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thunder and lightning before Eduard Delacroix is executed serve as a foreboding of something sinister that will happen – his electrocution that goes wrong with electricity and sparks resemble the light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cting sty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Actors may give life and personality to characters through their physical appearance, body language, costumes, make-up, and tone of vo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Acting can be played up (melodramatic or “over the top) or played down, humorous or non-professional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E.g. an actor like Hugh Grant adds a touch of Grant to most of the parts he plays. Johnny Depp turns his character in the Pirates of the Caribbean into a comical, exaggerated figure (plays it up)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Photography I</a:t>
            </a:r>
            <a:br>
              <a:rPr sz="4400"/>
            </a:br>
            <a:r>
              <a:rPr b="0" lang="nb-NO" sz="2400" spc="-1" strike="noStrike">
                <a:solidFill>
                  <a:srgbClr val="ccffff"/>
                </a:solidFill>
                <a:latin typeface="Arial"/>
              </a:rPr>
              <a:t>Camera techniques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Different types of shot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Long shot (panoram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Gives an overall view from a distance and is often used to introduce a setting or set a sce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Mid sh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A middle distance which can give background information and focus on character at the same ti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Close-ups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Focus on facial expressions and individual reac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Focus on details, body parts or obj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Close-ups are often used in films focusing on ”feelings and relations” between peo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6" descr="jd_fpfilmpixb"/>
          <p:cNvPicPr/>
          <p:nvPr/>
        </p:nvPicPr>
        <p:blipFill>
          <a:blip r:embed="rId1"/>
          <a:stretch/>
        </p:blipFill>
        <p:spPr>
          <a:xfrm>
            <a:off x="5295960" y="2281320"/>
            <a:ext cx="274320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Photography II</a:t>
            </a:r>
            <a:br>
              <a:rPr sz="4400"/>
            </a:br>
            <a:r>
              <a:rPr b="0" lang="nb-NO" sz="2400" spc="-1" strike="noStrike">
                <a:solidFill>
                  <a:srgbClr val="ccffff"/>
                </a:solidFill>
                <a:latin typeface="Arial"/>
              </a:rPr>
              <a:t>Camera movement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Camera movement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A film camera may either be stationary or mov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The handheld came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Gives an authentic feel to the fil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Pann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The most common movement of a stationary camera is ”panning” – a horizontal movement from side to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Panning is often used when people or objects are moving in a certain environ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Til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A vertical movement up or dow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From the ground and up – give a feeling of siz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7" descr="stuntman-1280-1"/>
          <p:cNvPicPr/>
          <p:nvPr/>
        </p:nvPicPr>
        <p:blipFill>
          <a:blip r:embed="rId1"/>
          <a:stretch/>
        </p:blipFill>
        <p:spPr>
          <a:xfrm>
            <a:off x="4648320" y="2517840"/>
            <a:ext cx="403848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na</cp:lastModifiedBy>
  <dcterms:modified xsi:type="dcterms:W3CDTF">2009-08-27T19:46:4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